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6650-CA26-40F5-BFC9-09BB95624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6ECB-DC33-45F8-BDD4-FF23693D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72EE-ABA1-4B73-9E5E-BDA0CC5C3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6E0B-B6AC-4B41-BB3B-720E0D448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DFA6-2FD8-4DEB-8013-69F91E3A7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90B1-46D0-4917-BAA6-1ABA6EF6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1A6B-F16B-4E64-81CE-2F2D8EFA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AC44-4E1A-4E55-9A30-CFAFD129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B1E7-2402-4A9D-B94A-2A69AACE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B8BB-DF99-42AD-A3B0-B1212C90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08EC-6C82-4316-BD11-23E3953A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B2E8-D9DE-48B2-9257-7D440878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3834-50F0-42B0-880A-C960007C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3A4C-E315-4348-A1B1-08CA31E3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5D78-E151-4331-ADFD-B6B63521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DBD0-7B7C-4B9B-B752-12A02C6B8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795E-7A1D-4B5B-BE34-9619BBE8F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1DF3-DE26-470F-9608-0CE5EB8F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FB2C-4011-43E4-A0DD-052379D3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E56A-D894-4346-AA5B-362EC61A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9DFD-DA14-4C7A-90D8-73959C61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EC07-77D7-4F0E-85C6-FBC6491F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10C1-3FD8-4396-9807-6EBB80FA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07E7-4A77-41CA-9AFB-550DE0DE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4198-1983-4B63-A213-668244A5AD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3B44-C2AF-4E67-BDC5-A1C7C925F7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drock Architectural Q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on Going Discussion of Architectural Issues in the Redrock Proj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y Use Interface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ows for “Design by Contract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295280" y="3048120"/>
            <a:ext cx="1135080" cy="1592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086600" y="2971800"/>
            <a:ext cx="1135080" cy="1592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276720" y="2743200"/>
            <a:ext cx="2349360" cy="2405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52480" y="5334120"/>
            <a:ext cx="19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ent Develop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21280" y="525780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lem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velop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57400" y="5334120"/>
            <a:ext cx="11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410080" y="3886200"/>
            <a:ext cx="15242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14600" y="388620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78960" y="3384720"/>
            <a:ext cx="6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21600" y="338472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le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y Use Interface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s for “Design by Contract”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lementation and contract (interface) can be developed at different ti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lient developer doesn’t have to wait for the implementation developer to finish implement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moves workflow bottlenecks when working with dependenc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ystem components can be developed in parallel yielding better throughpu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y Use Interface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ows for multiple implementations of the contr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2971800"/>
            <a:ext cx="213372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tract (Interfa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429000"/>
            <a:ext cx="121932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op Prox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5791320"/>
            <a:ext cx="289584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lementation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4191120"/>
            <a:ext cx="175248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moting Prox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0" y="3886200"/>
            <a:ext cx="1752480" cy="7621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ck Proxy f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t Tes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5791320"/>
            <a:ext cx="281916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lementation Tw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572000" y="3581280"/>
            <a:ext cx="0" cy="60984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5791320"/>
            <a:ext cx="251460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lementation Thr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5409720" y="3580920"/>
            <a:ext cx="2133720" cy="221004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5790960" y="3276360"/>
            <a:ext cx="1981080" cy="60948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286000" y="3352320"/>
            <a:ext cx="1371600" cy="30492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209680" y="3886200"/>
            <a:ext cx="0" cy="18288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334120" y="4647960"/>
            <a:ext cx="0" cy="11430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5600" y="3962520"/>
            <a:ext cx="209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ecurity Asp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xception Handling Asp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erformance Metr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emory Metr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22000" y="4724280"/>
            <a:ext cx="2081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jb remo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tml text remo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tml binary remo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Java serialization remo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b services remo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400440" y="2743200"/>
            <a:ext cx="76212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81640" y="2622600"/>
            <a:ext cx="164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(Means implemen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llows for Restricted Roles in Object Desig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ves implementation developer freedom to extend an implementing object beyond an interface contra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tricts roles to client nee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724280" y="4191120"/>
            <a:ext cx="1676520" cy="990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&lt;interface&gt;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lateValid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alidate(readReques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alidate(writeReques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7120" y="4191120"/>
            <a:ext cx="25146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&lt;interface&gt;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chemaSymbolMapProvi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tSymbolMap(ke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5410080"/>
            <a:ext cx="1676160" cy="1295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lateRegis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lateRegistry(…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alidate(readReques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alidate(writeReques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tSymbolMap(ke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4114800"/>
            <a:ext cx="1676520" cy="1143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&lt;interface&gt;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l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tFilterXml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tFilterId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tVhimVersion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5486400"/>
            <a:ext cx="1676520" cy="1295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XmlFil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tFilterXml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tFilterId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tVhimVersion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ff"/>
                </a:solidFill>
                <a:latin typeface="Tahoma"/>
              </a:rPr>
              <a:t>setSomeDependency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905120" y="525744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486040" y="5181120"/>
            <a:ext cx="1600200" cy="2286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086600" y="5105520"/>
            <a:ext cx="609480" cy="30456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5:12:31Z</dcterms:created>
  <dc:creator>CACI</dc:creator>
  <dc:description/>
  <dc:language>en-US</dc:language>
  <cp:lastModifiedBy>CACI</cp:lastModifiedBy>
  <dcterms:modified xsi:type="dcterms:W3CDTF">2006-10-18T19:22:04Z</dcterms:modified>
  <cp:revision>7</cp:revision>
  <dc:subject/>
  <dc:title>Redrock I8 Code Review</dc:title>
</cp:coreProperties>
</file>